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4A8E-C7ED-4234-81EF-B0AF5C6DF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re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C848-741C-4392-93F8-4D2C98B37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DF4B-C6CA-475D-B757-66B41C30E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6133-44AF-4143-BDC8-513299F3A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Calibri"/>
                <a:ea typeface="B Titr"/>
              </a:rPr>
              <a:t>"چگونه موج رفتار موجی نشان می دهد"،"چگونه نویسنده های معروف خوانندگانشان را روی داستان میخکوب می کنند"،"چه مدلی چرخه اقتصادی را بهتر نشان می دهد؟"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Calibri"/>
                <a:cs typeface="B Titr"/>
              </a:rPr>
              <a:t>در محاسبات: چه خطاهایی اجتناب نا پذیراست؟-چند درصد خطا قابل قبول است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DAF2-3A82-4F4E-AE5F-8DC320FDD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AC77-5584-4F74-8E5C-9BCCDFC7D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413A-BEE2-4F2C-98F0-510E279F0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حقيقي: شامل دانش و مهارت مورد نياز براي موفق شدن در خارج از مدرسه استاك هاي شناخته شده در سطح پيشرفته اي است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از: مبتني بر استاندارد و ملاك هاي معلوم با ظرفيت هاي خاص براي دانش آموزان، معلمان و اوليا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دون جهت گيري: اجازه استفاده از فرآيندي تبعيض آميز و غير عادلانه نمي شود را نمي دهد و براي سبك هاي يادگيري و پيشينه و فرهنگ دانش آموزان احترام قائل مي شود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مستلزم استفاده از دانش توليد شده است: نياز مند آ است كه دانش آموزان دانش جديدي را توليد كنند و آن را براي حل مسئله بكار مي گيرن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فرآيند- شفاف كننده است: مستلزم آن است كه دانش آموزان چيزي را توليدي/ اجرايي كنند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شفاف كننده دانش آموز است: دانش آموزان را درگير خود ارزشيابي و توسعه ابزار هاي سنجش مي‌كند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طولي: سنجش دانش آموزان در طول زمان بسط داده مي‌شو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3DD0-3D0D-4AE6-BECA-617B21DAA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« 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عجز جاافتاده -نهادينه شده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killed incompe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انسان هايي با اين ويژگي، به طر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شگفت انگيزي در دور نگه داشتن خود از فرصت هاي يادگيري، ورزيده اند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ناتواني در يادگيري يا امتناع از يادگيري از ديرباز و براي دوره ها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طولاني گريبان آدمي را گرفته است و آموزش هاي رسمي نيز معمولا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در تغيير اين وضع ناكام بوده اند. درس پژوهي تا حدود زيادي مي توان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ه مؤسسات آموزشي كمك كند تا خود را متحول سازند و ب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كارگزاران آموزشي ياري رساند تا بر احساس ناتواني سازماندهي تغيي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يا امتناع از يادگيري، ترس از دانستن و فرار از آگاهي فائق آيند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CECC-2DA4-4046-BAE3-2D3860286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73B-AD1E-48F7-B434-C76F8D61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FCD-C67E-4B66-A142-088D1474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5DD-593D-43B4-A69D-8C6AB546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8CA-E1F8-4492-B417-851304E9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4723-AB7C-4F61-B77F-99A93634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1383-967E-48EC-8F35-514462F2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7E3D-FDC4-4654-964B-A0E54DF0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3928-A8F4-46DE-B694-25FF3B6F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40DC-0759-41CF-9F2B-B0FFD54F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1A4B-0E45-4465-A857-F030D3E7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030B-AFE0-4E96-99C7-1123F495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B6E-06B3-4185-8F53-8A9D090A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66F8-317F-4998-8E33-EC43A30E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A71C-A4F8-4F82-BEA5-1A9EDAF8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11D1-0C17-45EC-A698-D79F19E0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07F0-6CD8-446F-936B-173B1613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9FC8-FC58-43B6-A6CF-9189F096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E40A9-A694-41A8-A8D1-1B5A9761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E9C80-576F-461E-A2DA-5A8E8C6C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2281-63AA-4097-A87F-5FFB3B98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6FF58-2179-48BD-B0F1-2E729D45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0C7E-2A67-4FCC-9D31-FC2B6B21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7A8-62B0-42ED-BD58-E13498E4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031E7-6D73-460D-A6E6-049C5931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EFA9-9DE3-475B-9B45-DAE25847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8DC63-1B1D-416D-B6C8-F2294FCC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2384-0ABE-4A88-A608-5F753FCF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6C42-D270-497C-92CA-BEC7EB35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627E-B1C3-4522-842D-32E22BCB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D34B2-65F5-4631-A8A3-FEEB11F9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5D57-E995-48CF-9A64-72548141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402CD-DFCB-4B46-9CBA-96B40DE4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FA399-D502-4453-A47C-06407577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80C-144C-4445-A413-06189353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D0A8-2DD1-413F-BA7E-90C0CF35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4E3D7-422A-4068-AFE4-24E2B786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FB58E-9B4E-4015-89F4-E934D76C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AC27-BD41-44D6-923A-92AAA247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A8B41-1D83-4426-A745-C054826F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DF43C-DDA4-4069-BDF2-7E7E7984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CC967-3413-46B1-A17F-7EB61EEE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5C6A2-545B-4110-BDCC-8F6155EE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4F209-F476-498D-AC74-A2EA672E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96B4A-5DA1-4BBC-9E6F-557A9037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909-FCDA-4071-B609-53F2438F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9067F-0B95-451F-BC41-478DDD97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1946F-AF64-437C-86C7-0A94F97D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1DD88-A18B-42CB-9AD2-CEF839CF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0A028-B780-4A93-B467-8F726466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102B1-F8D8-42EF-8839-5C4007F1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6187F-99D7-4AE3-BB9D-3E57AEE4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96EEF-2FD9-4764-9567-DD5D94A0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41B92-9E1E-4CB2-8CBD-3F51DD47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D9FB6-5007-4D75-9096-5A878ECA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71CBB-1BBD-4720-AEA7-0F3AD5E3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1F2-0CE5-4CFE-9BA1-CBDB1D02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DB1DC-73AA-4DF1-9FBA-DA3014EB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A86-B8E9-4A46-ACBC-9A3052DE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798-6F9C-46FA-BB03-83E27D64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5C5-E125-4AAE-A356-08FC38C5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2E98-A812-4931-9662-33ED8AF6520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1960" cy="11124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FB67-D0D8-449A-B87F-36DFFFCA6C5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C539-8CF1-4ACA-8926-DC9D815BF36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7007-C75A-4C78-A388-5455E5B9A70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8B81-FED7-4CEB-8752-B85BAC9A3F5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c6a52"/>
                </a:solidFill>
                <a:latin typeface="Perpetua"/>
                <a:cs typeface="B Titr"/>
              </a:rPr>
              <a:t>با سپاس از همراهی و همدلی همه شما بزرگواران در اجرای برنامه کارورزی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38677"/>
                </a:solidFill>
                <a:latin typeface="Perpetua"/>
                <a:cs typeface="B Titr"/>
              </a:rPr>
              <a:t>کارگاه آموزشی مدرسان کارورزی(</a:t>
            </a:r>
            <a:r>
              <a:rPr b="0" lang="fa-IR" sz="1800" spc="-1" strike="noStrike">
                <a:solidFill>
                  <a:srgbClr val="138677"/>
                </a:solidFill>
                <a:latin typeface="Perpetua"/>
                <a:ea typeface="B Titr"/>
              </a:rPr>
              <a:t>4</a:t>
            </a:r>
            <a:r>
              <a:rPr b="0" lang="fa-IR" sz="1800" spc="-1" strike="noStrike">
                <a:solidFill>
                  <a:srgbClr val="138677"/>
                </a:solidFill>
                <a:latin typeface="Perpetua"/>
                <a:ea typeface="B Titr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38677"/>
                </a:solidFill>
                <a:latin typeface="Perpetua"/>
                <a:cs typeface="B Titr"/>
              </a:rPr>
              <a:t>دی ماه </a:t>
            </a:r>
            <a:r>
              <a:rPr b="0" lang="fa-IR" sz="1800" spc="-1" strike="noStrike">
                <a:solidFill>
                  <a:srgbClr val="138677"/>
                </a:solidFill>
                <a:latin typeface="Perpetua"/>
                <a:ea typeface="B Titr"/>
              </a:rPr>
              <a:t>139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بسم الله الرحمن الرحیم</a:t>
            </a:r>
            <a:endParaRPr b="0" lang="en-US" sz="54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نقشه های ذه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62" name="Subtitle 2"/>
          <p:cNvGrpSpPr/>
          <p:nvPr/>
        </p:nvGrpSpPr>
        <p:grpSpPr>
          <a:xfrm>
            <a:off x="1133640" y="3114720"/>
            <a:ext cx="6651360" cy="3371760"/>
            <a:chOff x="1133640" y="3114720"/>
            <a:chExt cx="6651360" cy="3371760"/>
          </a:xfrm>
        </p:grpSpPr>
        <p:pic>
          <p:nvPicPr>
            <p:cNvPr id="263" name="Subtitle 2" descr=""/>
            <p:cNvPicPr/>
            <p:nvPr/>
          </p:nvPicPr>
          <p:blipFill>
            <a:blip r:embed="rId1"/>
            <a:stretch/>
          </p:blipFill>
          <p:spPr>
            <a:xfrm>
              <a:off x="1133640" y="3114720"/>
              <a:ext cx="665136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295280" y="3200400"/>
              <a:ext cx="64008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600" spc="-1" strike="noStrike">
                  <a:solidFill>
                    <a:srgbClr val="00b050"/>
                  </a:solidFill>
                  <a:latin typeface="Perpetua"/>
                  <a:cs typeface="B Titr"/>
                </a:rPr>
                <a:t>نقشه هاي ذهنی روشي براي بازنمايي بصري اطلاعات هستند.</a:t>
              </a: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600" spc="-1" strike="noStrike">
                  <a:solidFill>
                    <a:srgbClr val="00b050"/>
                  </a:solidFill>
                  <a:latin typeface="Perpetua"/>
                  <a:cs typeface="B Titr"/>
                </a:rPr>
                <a:t>تهیه نقشه ي ذهنی به ما كمك مي كند تا اطلاعاتي را كه از قبل درباره ي يك موضوع مي دانيم روي هم بگذاريم و مطلب جديد را، همچنان كه آن را ياد مي گيريم، درک کنیم. </a:t>
              </a: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10"/>
          <p:cNvSpPr/>
          <p:nvPr/>
        </p:nvSpPr>
        <p:spPr>
          <a:xfrm>
            <a:off x="1981080" y="1219320"/>
            <a:ext cx="1981440" cy="160020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236232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Perpetua"/>
                <a:cs typeface="B Titr"/>
              </a:rPr>
              <a:t>موجود زند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4876920" y="2666880"/>
            <a:ext cx="838080" cy="83844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4952880" y="2895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Perpetua"/>
                <a:cs typeface="B Titr"/>
              </a:rPr>
              <a:t>گیا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69" name="Straight Arrow Connector 15"/>
          <p:cNvCxnSpPr>
            <a:stCxn id="265" idx="5"/>
          </p:cNvCxnSpPr>
          <p:nvPr/>
        </p:nvCxnSpPr>
        <p:spPr>
          <a:xfrm>
            <a:off x="3671640" y="2584440"/>
            <a:ext cx="1129320" cy="388080"/>
          </a:xfrm>
          <a:prstGeom prst="straightConnector1">
            <a:avLst/>
          </a:prstGeom>
          <a:ln w="28440">
            <a:solidFill>
              <a:srgbClr val="63ac27"/>
            </a:solidFill>
            <a:miter/>
            <a:tailEnd len="med" type="arrow" w="med"/>
          </a:ln>
        </p:spPr>
      </p:cxnSp>
      <p:sp>
        <p:nvSpPr>
          <p:cNvPr id="270" name="Oval 16"/>
          <p:cNvSpPr/>
          <p:nvPr/>
        </p:nvSpPr>
        <p:spPr>
          <a:xfrm>
            <a:off x="2514600" y="3429000"/>
            <a:ext cx="838080" cy="83808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71" name="Straight Arrow Connector 17"/>
          <p:cNvCxnSpPr>
            <a:stCxn id="265" idx="3"/>
            <a:endCxn id="270" idx="0"/>
          </p:cNvCxnSpPr>
          <p:nvPr/>
        </p:nvCxnSpPr>
        <p:spPr>
          <a:xfrm>
            <a:off x="2271240" y="2584440"/>
            <a:ext cx="662760" cy="845280"/>
          </a:xfrm>
          <a:prstGeom prst="straightConnector1">
            <a:avLst/>
          </a:prstGeom>
          <a:ln w="28440">
            <a:solidFill>
              <a:srgbClr val="63ac2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Marziyeh\Desktop\mm_health.jpg"/>
          <p:cNvPicPr/>
          <p:nvPr/>
        </p:nvPicPr>
        <p:blipFill>
          <a:blip r:embed="rId1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واحد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3200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یک واحد یادگیری عبارت است از چند رویداد یادگیری به هم مرتبط و معنادار که با ارائه‌ی آن دانش آموز می‌تواند به شایستگی مهمی دست یابد</a:t>
            </a:r>
            <a:r>
              <a:rPr b="0" lang="fa-IR" sz="2800" spc="-1" strike="noStrike">
                <a:solidFill>
                  <a:srgbClr val="0070c0"/>
                </a:solidFill>
                <a:latin typeface="Perpetua"/>
                <a:ea typeface="B Titr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3399"/>
                </a:solidFill>
                <a:latin typeface="Perpetua"/>
                <a:cs typeface="B Titr"/>
              </a:rPr>
              <a:t>هدف از طراحی یک واحد یادگیری آن است که یادگیرنده بتواند از آنچه یاد می‌گیرد معنای تازه‏ای بسازد و آنچه آموخته است را با استقلال و اثربخشی روز افزون در موقعیت های پیچیده ی جهان واقعی به کار ببرد</a:t>
            </a:r>
            <a:r>
              <a:rPr b="0" lang="fa-IR" sz="2800" spc="-1" strike="noStrike">
                <a:solidFill>
                  <a:srgbClr val="ff3399"/>
                </a:solidFill>
                <a:latin typeface="Perpetua"/>
                <a:ea typeface="B Tit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Subtitle 4" descr=""/>
          <p:cNvPicPr/>
          <p:nvPr/>
        </p:nvPicPr>
        <p:blipFill>
          <a:blip r:embed="rId1"/>
          <a:stretch/>
        </p:blipFill>
        <p:spPr>
          <a:xfrm>
            <a:off x="1279440" y="3097080"/>
            <a:ext cx="6426360" cy="33163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آشنایی با اصطلاحات در طراحی واحد یادگیری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Content Placeholder 2" descr=""/>
          <p:cNvPicPr/>
          <p:nvPr/>
        </p:nvPicPr>
        <p:blipFill>
          <a:blip r:embed="rId1"/>
          <a:stretch/>
        </p:blipFill>
        <p:spPr>
          <a:xfrm>
            <a:off x="1279440" y="3157560"/>
            <a:ext cx="6529320" cy="29512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تحلیل متن آموزش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80520" y="3200040"/>
            <a:ext cx="8077320" cy="2438280"/>
          </a:xfrm>
          <a:prstGeom prst="rect">
            <a:avLst/>
          </a:prstGeom>
          <a:solidFill>
            <a:srgbClr val="0082a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ایده های کلیدی/ مفاهیم و مهارت های اساسی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قوانین/ قواعد/ اصول/ تعمیم ها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حقایق و اطلاعات جزئی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حتوا در برنامه درسی(کتاب درسی)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Franklin Gothic Book"/>
                <a:cs typeface="B Titr"/>
              </a:rPr>
              <a:t>شایستگی ها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82" name="Content Placeholder 2"/>
          <p:cNvGrpSpPr/>
          <p:nvPr/>
        </p:nvGrpSpPr>
        <p:grpSpPr>
          <a:xfrm>
            <a:off x="-353880" y="1554120"/>
            <a:ext cx="9248760" cy="5505480"/>
            <a:chOff x="-353880" y="1554120"/>
            <a:chExt cx="9248760" cy="5505480"/>
          </a:xfrm>
        </p:grpSpPr>
        <p:pic>
          <p:nvPicPr>
            <p:cNvPr id="28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-353880" y="1554120"/>
              <a:ext cx="9248760" cy="55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28600" y="1600200"/>
              <a:ext cx="861048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rtl="1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just" rtl="1">
                <a:lnSpc>
                  <a:spcPct val="9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تلفیق پذیر: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یک شایستگی تلفیق منسجمی از عناصر مورد نیاز برای حل مساله های تربیتی است. </a:t>
              </a:r>
              <a:endParaRPr b="0" lang="en-US" sz="31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just" rtl="1">
                <a:lnSpc>
                  <a:spcPct val="9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پایدار: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یک ویژگی شایستگی تداوم، پایداری و قابلیت توسعه آن در گذر زمان است. اهداف متکی بر محتوا (برای مثال دانش و مهارت ) با گذشت زمان تغییر می کند</a:t>
              </a:r>
              <a:r>
                <a:rPr b="1" lang="en-US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.</a:t>
              </a:r>
              <a:endParaRPr b="0" lang="en-US" sz="31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just" rtl="1">
                <a:lnSpc>
                  <a:spcPct val="9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خاص بودن: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شایستگی ها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ترکیبی از مهارت های شناختی و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فراشناختی،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مهارت ها، دانش (دانش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آشکار و دانش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ضمنی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)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انگیزش، ارزش ها، نگرش ها، هیجا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ن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ات و رفتار های اجتماعی که برای انجام یک عمل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حرفه‏ای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در زمینه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‏ای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 خاصی بسیج می شوند</a:t>
              </a:r>
              <a:endParaRPr b="0" lang="en-US" sz="31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1"/>
          <a:stretch/>
        </p:blipFill>
        <p:spPr>
          <a:xfrm>
            <a:off x="669960" y="255600"/>
            <a:ext cx="780408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86" name="Content Placeholder 2"/>
          <p:cNvGrpSpPr/>
          <p:nvPr/>
        </p:nvGrpSpPr>
        <p:grpSpPr>
          <a:xfrm>
            <a:off x="554040" y="1536840"/>
            <a:ext cx="8126280" cy="5735520"/>
            <a:chOff x="554040" y="1536840"/>
            <a:chExt cx="8126280" cy="5735520"/>
          </a:xfrm>
        </p:grpSpPr>
        <p:pic>
          <p:nvPicPr>
            <p:cNvPr id="287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554040" y="1536840"/>
              <a:ext cx="8126280" cy="57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85800" y="1752480"/>
              <a:ext cx="77724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شایستگی</a:t>
              </a: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یادگیری باید شامل: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موقعیت/ مسئله‏ای که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منجر به ساخت معنی </a:t>
              </a: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از سوی </a:t>
              </a: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دانش آموز می شود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و می تواند یادگیری رابه موقعیت جدید انتقال دهد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توانایی ها/ قابلیت های یادگیرنده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،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ملاک های ارزیابی عملکرد (شواهد)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سطح عملکرد (کیفت/ کمیت)/ تولید مورد انتظار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(آنچه پیش بینی شده و آن برآمده از موقعیت است)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>
                <a:lnSpc>
                  <a:spcPct val="90000"/>
                </a:lnSpc>
                <a:spcBef>
                  <a:spcPts val="575"/>
                </a:spcBef>
                <a:buClr>
                  <a:srgbClr val="7fd13b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با درک مسئولیت ها در قبال سلامت و بهداشت جامعه، در برنامه های ارتقای سلامت/ تفریحات سالم/ سالم سازی محیط زیست مشارکت ‏کند و بر اساس نتایج آن برای حفظ/ارتقاء سلامت در زندگی خود تصمیم گیری نماید</a:t>
            </a:r>
            <a:r>
              <a:rPr b="0" lang="fa-IR" sz="2800" spc="-1" strike="noStrike">
                <a:solidFill>
                  <a:srgbClr val="00b050"/>
                </a:solidFill>
                <a:latin typeface="Perpetu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اسناد قانو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38" name="Subtitle 4"/>
          <p:cNvGrpSpPr/>
          <p:nvPr/>
        </p:nvGrpSpPr>
        <p:grpSpPr>
          <a:xfrm>
            <a:off x="347760" y="1219320"/>
            <a:ext cx="8454960" cy="5010120"/>
            <a:chOff x="347760" y="1219320"/>
            <a:chExt cx="8454960" cy="5010120"/>
          </a:xfrm>
        </p:grpSpPr>
        <p:pic>
          <p:nvPicPr>
            <p:cNvPr id="239" name="Subtitle 4" descr=""/>
            <p:cNvPicPr/>
            <p:nvPr/>
          </p:nvPicPr>
          <p:blipFill>
            <a:blip r:embed="rId1"/>
            <a:stretch/>
          </p:blipFill>
          <p:spPr>
            <a:xfrm>
              <a:off x="347760" y="1219320"/>
              <a:ext cx="845496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09480" y="1523880"/>
              <a:ext cx="8001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ea typeface="B Titr"/>
                </a:rPr>
                <a:t>-</a:t>
              </a:r>
              <a:endParaRPr b="0" lang="en-US" sz="3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lnSpc>
                  <a:spcPct val="15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cs typeface="B Titr"/>
                </a:rPr>
                <a:t>هدف عملیاتی </a:t>
              </a: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ea typeface="B Titr"/>
                </a:rPr>
                <a:t>11</a:t>
              </a: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ea typeface="B Titr"/>
                </a:rPr>
                <a:t> سند تحول</a:t>
              </a:r>
              <a:endParaRPr b="0" lang="en-US" sz="3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lnSpc>
                  <a:spcPct val="15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«بازمهندسی سیاست‌ها و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بازتنظیم اصول حاکم بر برنامه‌ درسی تربیت معلم</a:t>
              </a: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 با تأکید بر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کارورزی</a:t>
              </a: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 و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انطباق </a:t>
              </a:r>
              <a:r>
                <a:rPr b="1" lang="ar-SA" sz="2600" spc="-1" strike="noStrike" u="sng">
                  <a:solidFill>
                    <a:srgbClr val="fff1ce"/>
                  </a:solidFill>
                  <a:uFillTx/>
                  <a:latin typeface="Perpetua"/>
                  <a:cs typeface="B Titr"/>
                </a:rPr>
                <a:t>سطح شایستگی‌های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حرفه‌ای معلمان در سطح ملی و جهانی با مقتضیات الگوی برنامه درسی در نظام تعلیم و تربیت</a:t>
              </a: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 و طراحی سیاست‌های مناسب برای ارتقای شیوه‌های جذب، تربیت و نگهداشت معلمان در آموزش و پرورش». </a:t>
              </a: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785880" y="158760"/>
            <a:ext cx="8023320" cy="1395360"/>
          </a:xfrm>
          <a:prstGeom prst="rect">
            <a:avLst/>
          </a:prstGeom>
          <a:ln w="0">
            <a:noFill/>
          </a:ln>
        </p:spPr>
      </p:pic>
      <p:pic>
        <p:nvPicPr>
          <p:cNvPr id="292" name="TextBox 3" descr=""/>
          <p:cNvPicPr/>
          <p:nvPr/>
        </p:nvPicPr>
        <p:blipFill>
          <a:blip r:embed="rId2"/>
          <a:stretch/>
        </p:blipFill>
        <p:spPr>
          <a:xfrm>
            <a:off x="225360" y="1427040"/>
            <a:ext cx="885204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785880" y="158760"/>
            <a:ext cx="8023320" cy="1395360"/>
          </a:xfrm>
          <a:prstGeom prst="rect">
            <a:avLst/>
          </a:prstGeom>
          <a:ln w="0">
            <a:noFill/>
          </a:ln>
        </p:spPr>
      </p:pic>
      <p:pic>
        <p:nvPicPr>
          <p:cNvPr id="294" name="TextBox 3" descr=""/>
          <p:cNvPicPr/>
          <p:nvPr/>
        </p:nvPicPr>
        <p:blipFill>
          <a:blip r:embed="rId2"/>
          <a:stretch/>
        </p:blipFill>
        <p:spPr>
          <a:xfrm>
            <a:off x="-6480" y="1859040"/>
            <a:ext cx="90838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785880" y="64620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ea typeface="B Titr"/>
              </a:rPr>
              <a:t>«چگونه موج رفتار موجی نشان می دهد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ea typeface="B Titr"/>
              </a:rPr>
              <a:t>«چگونه نویسنده های معروف خوانندگانشان را روی داستان میخکوب می کنند؟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ea typeface="B Titr"/>
              </a:rPr>
              <a:t>«چه مدلی چرخه اقتصادی را بهتر نشان می دهد؟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Content Placeholder 2" descr=""/>
          <p:cNvPicPr/>
          <p:nvPr/>
        </p:nvPicPr>
        <p:blipFill>
          <a:blip r:embed="rId1"/>
          <a:stretch/>
        </p:blipFill>
        <p:spPr>
          <a:xfrm>
            <a:off x="658800" y="3041640"/>
            <a:ext cx="7656480" cy="35971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ایده کلید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ساختار و عملکر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سیستم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الگو ها و روابط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سلامت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Content Placeholder 2" descr=""/>
          <p:cNvPicPr/>
          <p:nvPr/>
        </p:nvPicPr>
        <p:blipFill>
          <a:blip r:embed="rId1"/>
          <a:stretch/>
        </p:blipFill>
        <p:spPr>
          <a:xfrm>
            <a:off x="1054080" y="3486240"/>
            <a:ext cx="6632640" cy="29271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فاهیم اساس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موج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cce0c"/>
                </a:solidFill>
                <a:latin typeface="Perpetua"/>
                <a:cs typeface="B Titr"/>
              </a:rPr>
              <a:t>ناحی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عد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3399"/>
                </a:solidFill>
                <a:latin typeface="Perpetua"/>
                <a:cs typeface="B Titr"/>
              </a:rPr>
              <a:t>تورّم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1daff"/>
                </a:solidFill>
                <a:latin typeface="Perpetua"/>
                <a:cs typeface="B Titr"/>
              </a:rPr>
              <a:t>اکوسیستم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ae2c83"/>
                </a:solidFill>
                <a:latin typeface="Perpetua"/>
                <a:cs typeface="B Titr"/>
              </a:rPr>
              <a:t>جنبش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Content Placeholder 2" descr=""/>
          <p:cNvPicPr/>
          <p:nvPr/>
        </p:nvPicPr>
        <p:blipFill>
          <a:blip r:embed="rId1"/>
          <a:stretch/>
        </p:blipFill>
        <p:spPr>
          <a:xfrm>
            <a:off x="1017720" y="3181320"/>
            <a:ext cx="6840360" cy="27748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هارت های اساس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محاسب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ترسیم نقش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تصمیم گیری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گوش دادن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اصل: انبساط و انقباض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تعمیم: فلزات در اثر حرات منبسط می شون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اطلاعات جزئی: فاصله زمین تا خورشید </a:t>
            </a:r>
            <a:r>
              <a:rPr b="0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یک واحد نجومی است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قاعده: ساخت فعل مضارع از بن فعل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اسناد قانو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7772400" cy="4572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ea typeface="B Titr"/>
              </a:rPr>
              <a:t>-</a:t>
            </a:r>
            <a:endParaRPr b="0" lang="en-US" sz="46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cs typeface="B Titr"/>
              </a:rPr>
              <a:t>هدف عملیاتی </a:t>
            </a: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ea typeface="B Titr"/>
              </a:rPr>
              <a:t>11</a:t>
            </a: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ea typeface="B Titr"/>
              </a:rPr>
              <a:t> سند تحول</a:t>
            </a:r>
            <a:endParaRPr b="0" lang="en-US" sz="46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cs typeface="B Titr"/>
              </a:rPr>
              <a:t>استقرار سازوکارهای</a:t>
            </a:r>
            <a:r>
              <a:rPr b="0" lang="fa-IR" sz="4600" spc="-1" strike="noStrike">
                <a:solidFill>
                  <a:srgbClr val="fff1ce"/>
                </a:solidFill>
                <a:latin typeface="Perpetua"/>
                <a:ea typeface="B Titr"/>
              </a:rPr>
              <a:t> ارتقای توانمندی های معلمان برای مشارکت مؤثر آنان در برنامه‏ریزی درسی در سطح مدرسه، به ویژه سازوکار هایی که به تقویت هویت حرقه‏ای آنان می‏انجامد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. (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6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-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11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)</a:t>
            </a:r>
            <a:r>
              <a:rPr b="0" lang="fa-IR" sz="4600" spc="-1" strike="noStrike">
                <a:solidFill>
                  <a:srgbClr val="fff1ce"/>
                </a:solidFill>
                <a:latin typeface="Perpetua"/>
                <a:ea typeface="B Titr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2d050"/>
                </a:solidFill>
                <a:latin typeface="Franklin Gothic Book"/>
                <a:cs typeface="B Titr"/>
              </a:rPr>
              <a:t>شواهد یادگیری مطلوب کدامند؟</a:t>
            </a:r>
            <a:br>
              <a:rPr sz="3600"/>
            </a:br>
            <a:r>
              <a:rPr b="1" lang="ar-SA" sz="3600" spc="-1" strike="noStrike">
                <a:solidFill>
                  <a:srgbClr val="92d050"/>
                </a:solidFill>
                <a:latin typeface="Franklin Gothic Book"/>
                <a:ea typeface="B Titr"/>
              </a:rPr>
              <a:t> 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به طور خاص چه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شواهد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ی حاکی از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درک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ea typeface="B Titr"/>
              </a:rPr>
              <a:t>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عمیق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ea typeface="B Titr"/>
              </a:rPr>
              <a:t> است؟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80520" y="304776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b050"/>
                </a:solidFill>
                <a:latin typeface="Perpetua"/>
                <a:cs typeface="B Titr"/>
              </a:rPr>
              <a:t>چگونه می توان فهمید که دانش آموز به نتایج مطلوب و استانداردها در برنامه درسی دست یافته اند؟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4e5b6f"/>
                </a:solidFill>
                <a:latin typeface="Perpetua"/>
                <a:ea typeface="B Titr"/>
              </a:rPr>
              <a:t> </a:t>
            </a:r>
            <a:r>
              <a:rPr b="0" lang="fa-IR" sz="3500" spc="-1" strike="noStrike">
                <a:solidFill>
                  <a:srgbClr val="ff0000"/>
                </a:solidFill>
                <a:latin typeface="Perpetua"/>
                <a:cs typeface="B Titr"/>
              </a:rPr>
              <a:t>چگونه می توان دریافت که دانش آموز "ایده کلید" را به درستی درک کرده اند؟ 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70c0"/>
                </a:solidFill>
                <a:latin typeface="Perpetua"/>
                <a:cs typeface="B Titr"/>
              </a:rPr>
              <a:t>چه شواهدی دست یابی دانش آموز به تمام شایستگی ها را تایید می کند؟ 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320" y="1371240"/>
            <a:ext cx="8991360" cy="1600200"/>
          </a:xfrm>
          <a:prstGeom prst="rect">
            <a:avLst/>
          </a:prstGeom>
          <a:solidFill>
            <a:srgbClr val="caf7f1"/>
          </a:solidFill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435faa"/>
                </a:solidFill>
                <a:latin typeface="Franklin Gothic Book"/>
                <a:cs typeface="B Titr"/>
              </a:rPr>
              <a:t>ويژگي هاي تکالیف عملكرد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314" name="Diagram 4" descr=""/>
          <p:cNvPicPr/>
          <p:nvPr/>
        </p:nvPicPr>
        <p:blipFill>
          <a:blip r:embed="rId1"/>
          <a:stretch/>
        </p:blipFill>
        <p:spPr>
          <a:xfrm>
            <a:off x="596880" y="2932200"/>
            <a:ext cx="79138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Title 3"/>
          <p:cNvGrpSpPr/>
          <p:nvPr/>
        </p:nvGrpSpPr>
        <p:grpSpPr>
          <a:xfrm>
            <a:off x="-55440" y="195120"/>
            <a:ext cx="9235800" cy="2865600"/>
            <a:chOff x="-55440" y="195120"/>
            <a:chExt cx="9235800" cy="2865600"/>
          </a:xfrm>
        </p:grpSpPr>
        <p:pic>
          <p:nvPicPr>
            <p:cNvPr id="316" name="Title 3" descr=""/>
            <p:cNvPicPr/>
            <p:nvPr/>
          </p:nvPicPr>
          <p:blipFill>
            <a:blip r:embed="rId1"/>
            <a:stretch/>
          </p:blipFill>
          <p:spPr>
            <a:xfrm>
              <a:off x="-55440" y="195120"/>
              <a:ext cx="923580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6320" y="228600"/>
              <a:ext cx="89913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چه </a:t>
              </a:r>
              <a:r>
                <a:rPr b="1" lang="fa-IR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آ</a:t>
              </a: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موزش و فعالیت های یادگیری شایستگی </a:t>
              </a:r>
              <a:r>
                <a:rPr b="1" lang="fa-IR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های او </a:t>
              </a: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را رشد می دهد؟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318" name="Subtitle 4" descr=""/>
          <p:cNvPicPr/>
          <p:nvPr/>
        </p:nvPicPr>
        <p:blipFill>
          <a:blip r:embed="rId2"/>
          <a:stretch/>
        </p:blipFill>
        <p:spPr>
          <a:xfrm>
            <a:off x="822240" y="3333600"/>
            <a:ext cx="68835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4ddd4"/>
                </a:solidFill>
                <a:latin typeface="Franklin Gothic Book"/>
                <a:cs typeface="B Titr"/>
              </a:rPr>
              <a:t>انواع فعالیت های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320" name="Subtitle 4" descr=""/>
          <p:cNvPicPr/>
          <p:nvPr/>
        </p:nvPicPr>
        <p:blipFill>
          <a:blip r:embed="rId1"/>
          <a:stretch/>
        </p:blipFill>
        <p:spPr>
          <a:xfrm>
            <a:off x="1279440" y="3181320"/>
            <a:ext cx="6426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رقراری ارتباط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تجربه کردن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کاربستن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ه اشتراک گذاشتن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انتقال به موقعیت جدید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راحل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662940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سنج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53352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آموز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2362320" y="1295280"/>
            <a:ext cx="4495680" cy="4114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8dae6"/>
              </a:gs>
              <a:gs pos="100000">
                <a:srgbClr val="06acb0"/>
              </a:gs>
            </a:gsLst>
            <a:lin ang="5400000"/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581280" y="914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برنامه درس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3278160" y="3954240"/>
            <a:ext cx="2665440" cy="649800"/>
          </a:xfrm>
          <a:prstGeom prst="ellipse">
            <a:avLst/>
          </a:prstGeom>
          <a:solidFill>
            <a:srgbClr val="d4e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شایستگ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Line 8"/>
          <p:cNvSpPr/>
          <p:nvPr/>
        </p:nvSpPr>
        <p:spPr>
          <a:xfrm flipH="1">
            <a:off x="2057040" y="1447920"/>
            <a:ext cx="2133720" cy="3657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2286000" y="5638680"/>
            <a:ext cx="46483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Line 10"/>
          <p:cNvSpPr/>
          <p:nvPr/>
        </p:nvSpPr>
        <p:spPr>
          <a:xfrm flipH="1" flipV="1">
            <a:off x="5028840" y="1447920"/>
            <a:ext cx="2057400" cy="3657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457200" y="1828800"/>
            <a:ext cx="8153280" cy="2322360"/>
            <a:chOff x="457200" y="1828800"/>
            <a:chExt cx="8153280" cy="2322360"/>
          </a:xfrm>
        </p:grpSpPr>
        <p:sp>
          <p:nvSpPr>
            <p:cNvPr id="332" name="Text Box 3"/>
            <p:cNvSpPr/>
            <p:nvPr/>
          </p:nvSpPr>
          <p:spPr>
            <a:xfrm>
              <a:off x="6310080" y="1833480"/>
              <a:ext cx="1555200" cy="803880"/>
            </a:xfrm>
            <a:prstGeom prst="rect">
              <a:avLst/>
            </a:prstGeom>
            <a:solidFill>
              <a:srgbClr val="b2e3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کنش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3" name="Text Box 4"/>
            <p:cNvSpPr/>
            <p:nvPr/>
          </p:nvSpPr>
          <p:spPr>
            <a:xfrm>
              <a:off x="4365720" y="1828800"/>
              <a:ext cx="1555200" cy="803520"/>
            </a:xfrm>
            <a:prstGeom prst="rect">
              <a:avLst/>
            </a:prstGeom>
            <a:solidFill>
              <a:srgbClr val="f273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تأمل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4" name="Text Box 5"/>
            <p:cNvSpPr/>
            <p:nvPr/>
          </p:nvSpPr>
          <p:spPr>
            <a:xfrm>
              <a:off x="2299680" y="1869840"/>
              <a:ext cx="1715040" cy="80388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چالش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>
              <a:off x="457200" y="1840680"/>
              <a:ext cx="1555200" cy="803520"/>
            </a:xfrm>
            <a:prstGeom prst="rect">
              <a:avLst/>
            </a:prstGeom>
            <a:solidFill>
              <a:srgbClr val="5fe8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احساس امنیت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6" name="Line 7"/>
            <p:cNvSpPr/>
            <p:nvPr/>
          </p:nvSpPr>
          <p:spPr>
            <a:xfrm>
              <a:off x="2040840" y="225900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7" name="Line 8"/>
            <p:cNvSpPr/>
            <p:nvPr/>
          </p:nvSpPr>
          <p:spPr>
            <a:xfrm>
              <a:off x="4075920" y="2259000"/>
              <a:ext cx="27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5977440" y="2212200"/>
              <a:ext cx="2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9" name="Freeform 10"/>
            <p:cNvSpPr/>
            <p:nvPr/>
          </p:nvSpPr>
          <p:spPr>
            <a:xfrm>
              <a:off x="5153040" y="2259000"/>
              <a:ext cx="3191040" cy="1166760"/>
            </a:xfrm>
            <a:custGeom>
              <a:avLst/>
              <a:gdLst>
                <a:gd name="textAreaLeft" fmla="*/ 0 w 3191040"/>
                <a:gd name="textAreaRight" fmla="*/ 3191400 w 3191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5958" h="1838">
                  <a:moveTo>
                    <a:pt x="5189" y="0"/>
                  </a:moveTo>
                  <a:lnTo>
                    <a:pt x="5958" y="0"/>
                  </a:lnTo>
                  <a:lnTo>
                    <a:pt x="5958" y="1838"/>
                  </a:lnTo>
                  <a:lnTo>
                    <a:pt x="0" y="1838"/>
                  </a:lnTo>
                  <a:lnTo>
                    <a:pt x="0" y="8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40" name="Freeform 11"/>
            <p:cNvSpPr/>
            <p:nvPr/>
          </p:nvSpPr>
          <p:spPr>
            <a:xfrm>
              <a:off x="3065040" y="2149200"/>
              <a:ext cx="5425200" cy="1512720"/>
            </a:xfrm>
            <a:custGeom>
              <a:avLst/>
              <a:gdLst>
                <a:gd name="textAreaLeft" fmla="*/ 0 w 5425200"/>
                <a:gd name="textAreaRight" fmla="*/ 5425560 w 5425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10129" h="2383">
                  <a:moveTo>
                    <a:pt x="9087" y="0"/>
                  </a:moveTo>
                  <a:lnTo>
                    <a:pt x="10129" y="0"/>
                  </a:lnTo>
                  <a:lnTo>
                    <a:pt x="10129" y="2383"/>
                  </a:lnTo>
                  <a:lnTo>
                    <a:pt x="0" y="2383"/>
                  </a:lnTo>
                  <a:lnTo>
                    <a:pt x="0" y="11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41" name="Freeform 12"/>
            <p:cNvSpPr/>
            <p:nvPr/>
          </p:nvSpPr>
          <p:spPr>
            <a:xfrm>
              <a:off x="1070280" y="2022840"/>
              <a:ext cx="7540200" cy="2128320"/>
            </a:xfrm>
            <a:custGeom>
              <a:avLst/>
              <a:gdLst>
                <a:gd name="textAreaLeft" fmla="*/ 0 w 7540200"/>
                <a:gd name="textAreaRight" fmla="*/ 7540560 w 7540200"/>
                <a:gd name="textAreaTop" fmla="*/ 0 h 2128320"/>
                <a:gd name="textAreaBottom" fmla="*/ 2128680 h 2128320"/>
              </a:gdLst>
              <a:ahLst/>
              <a:rect l="textAreaLeft" t="textAreaTop" r="textAreaRight" b="textAreaBottom"/>
              <a:pathLst>
                <a:path w="14077" h="3352">
                  <a:moveTo>
                    <a:pt x="12811" y="0"/>
                  </a:moveTo>
                  <a:lnTo>
                    <a:pt x="14077" y="0"/>
                  </a:lnTo>
                  <a:lnTo>
                    <a:pt x="14077" y="3352"/>
                  </a:lnTo>
                  <a:lnTo>
                    <a:pt x="0" y="3352"/>
                  </a:lnTo>
                  <a:lnTo>
                    <a:pt x="0" y="1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به پایان آمد این دفتر حکایت همچنان باقی است</a:t>
            </a: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ea typeface="B Titr"/>
              </a:rPr>
              <a:t>.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ff0000"/>
                </a:solidFill>
                <a:latin typeface="Perpetua"/>
                <a:cs typeface="B Titr"/>
              </a:rPr>
              <a:t>با سپاس از همراهی شما بزرگواران در طول این سفر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9900"/>
                </a:solidFill>
                <a:latin typeface="Franklin Gothic Book"/>
                <a:cs typeface="B Titr"/>
              </a:rPr>
              <a:t>اسناد قانو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44" name="Subtitle 4"/>
          <p:cNvGrpSpPr/>
          <p:nvPr/>
        </p:nvGrpSpPr>
        <p:grpSpPr>
          <a:xfrm>
            <a:off x="285840" y="1285920"/>
            <a:ext cx="8308800" cy="5280120"/>
            <a:chOff x="285840" y="1285920"/>
            <a:chExt cx="8308800" cy="5280120"/>
          </a:xfrm>
        </p:grpSpPr>
        <p:pic>
          <p:nvPicPr>
            <p:cNvPr id="245" name="Subtitle 4" descr=""/>
            <p:cNvPicPr/>
            <p:nvPr/>
          </p:nvPicPr>
          <p:blipFill>
            <a:blip r:embed="rId1"/>
            <a:stretch/>
          </p:blipFill>
          <p:spPr>
            <a:xfrm>
              <a:off x="285840" y="1285920"/>
              <a:ext cx="8308800" cy="528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09480" y="1523880"/>
              <a:ext cx="777240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cs typeface="B Titr"/>
                </a:rPr>
                <a:t>نقش معلم در برنامه درسی ملی </a:t>
              </a:r>
              <a:r>
                <a:rPr b="0" lang="fa-IR" sz="12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( صفحه</a:t>
              </a:r>
              <a:r>
                <a:rPr b="0" lang="fa-IR" sz="12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12</a:t>
              </a:r>
              <a:r>
                <a:rPr b="0" lang="fa-IR" sz="12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)</a:t>
              </a:r>
              <a:endParaRPr b="0" lang="en-US" sz="12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« برای خلق فرصت های تربیتی و آموزش</a:t>
              </a:r>
              <a:r>
                <a:rPr b="0" lang="en-US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]</a:t>
              </a: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cs typeface="B Titr"/>
                </a:rPr>
                <a:t>معلم </a:t>
              </a:r>
              <a:r>
                <a:rPr b="0" lang="en-US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[</a:t>
              </a: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مسئولیت تطبیق، تدوین، اجرا و ارزشیابی برنامه های درسی و تربیتی در سطح کلاس درس را بر عهده دارد»).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>
                  <a:solidFill>
                    <a:srgbClr val="009900"/>
                  </a:solidFill>
                  <a:latin typeface="Perpetua"/>
                  <a:ea typeface="B Titr"/>
                </a:rPr>
                <a:t>« با شناخت و بسط ظرفیت های وجودی دانش آموزان و خلق فرصت های تربیتی و آموزشی زمینه درک و انگیزه اصلاح مداوم موقعیت آنان را  فراهم سازد»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Title 6"/>
          <p:cNvGrpSpPr/>
          <p:nvPr/>
        </p:nvGrpSpPr>
        <p:grpSpPr>
          <a:xfrm>
            <a:off x="853920" y="622440"/>
            <a:ext cx="7888320" cy="2511360"/>
            <a:chOff x="853920" y="622440"/>
            <a:chExt cx="7888320" cy="2511360"/>
          </a:xfrm>
        </p:grpSpPr>
        <p:pic>
          <p:nvPicPr>
            <p:cNvPr id="248" name="Title 6" descr=""/>
            <p:cNvPicPr/>
            <p:nvPr/>
          </p:nvPicPr>
          <p:blipFill>
            <a:blip r:embed="rId1"/>
            <a:stretch/>
          </p:blipFill>
          <p:spPr>
            <a:xfrm>
              <a:off x="853920" y="622440"/>
              <a:ext cx="788832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914400" y="655560"/>
              <a:ext cx="7772400" cy="23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4000" spc="-1" strike="noStrike">
                  <a:solidFill>
                    <a:srgbClr val="f2f2f2"/>
                  </a:solidFill>
                  <a:latin typeface="Franklin Gothic Book"/>
                  <a:cs typeface="B Titr"/>
                </a:rPr>
                <a:t>نقش معلم به عنوان آموزش دهنده موضوعات</a:t>
              </a:r>
              <a:r>
                <a:rPr b="1" lang="fa-IR" sz="4000" spc="-1" strike="noStrike">
                  <a:solidFill>
                    <a:srgbClr val="f2f2f2"/>
                  </a:solidFill>
                  <a:latin typeface="Franklin Gothic Book"/>
                  <a:ea typeface="B Titr"/>
                </a:rPr>
                <a:t> 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50" name="Title 6"/>
          <p:cNvGrpSpPr/>
          <p:nvPr/>
        </p:nvGrpSpPr>
        <p:grpSpPr>
          <a:xfrm>
            <a:off x="785880" y="3693960"/>
            <a:ext cx="8023320" cy="2230560"/>
            <a:chOff x="785880" y="3693960"/>
            <a:chExt cx="8023320" cy="2230560"/>
          </a:xfrm>
        </p:grpSpPr>
        <p:pic>
          <p:nvPicPr>
            <p:cNvPr id="251" name="Title 6" descr=""/>
            <p:cNvPicPr/>
            <p:nvPr/>
          </p:nvPicPr>
          <p:blipFill>
            <a:blip r:embed="rId2"/>
            <a:stretch/>
          </p:blipFill>
          <p:spPr>
            <a:xfrm>
              <a:off x="785880" y="3693960"/>
              <a:ext cx="802332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914400" y="3809880"/>
              <a:ext cx="777240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0" lang="fa-IR" sz="4000" spc="-1" strike="noStrike">
                  <a:solidFill>
                    <a:srgbClr val="e5f6d8"/>
                  </a:solidFill>
                  <a:latin typeface="Franklin Gothic Book"/>
                  <a:cs typeface="B Titr"/>
                </a:rPr>
                <a:t>نقش معلم به عنوان کارگزار  فکور 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138677"/>
                </a:solidFill>
                <a:latin typeface="Franklin Gothic Book"/>
                <a:cs typeface="B Titr"/>
              </a:rPr>
              <a:t>اهداف کارگاه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254" name="Content Placeholder 2" descr=""/>
          <p:cNvPicPr/>
          <p:nvPr/>
        </p:nvPicPr>
        <p:blipFill>
          <a:blip r:embed="rId1"/>
          <a:stretch/>
        </p:blipFill>
        <p:spPr>
          <a:xfrm>
            <a:off x="895320" y="1427040"/>
            <a:ext cx="786456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itle 1"/>
          <p:cNvGrpSpPr/>
          <p:nvPr/>
        </p:nvGrpSpPr>
        <p:grpSpPr>
          <a:xfrm>
            <a:off x="785880" y="158760"/>
            <a:ext cx="8023320" cy="1395360"/>
            <a:chOff x="785880" y="158760"/>
            <a:chExt cx="8023320" cy="1395360"/>
          </a:xfrm>
        </p:grpSpPr>
        <p:pic>
          <p:nvPicPr>
            <p:cNvPr id="256" name="Title 1" descr=""/>
            <p:cNvPicPr/>
            <p:nvPr/>
          </p:nvPicPr>
          <p:blipFill>
            <a:blip r:embed="rId1"/>
            <a:stretch/>
          </p:blipFill>
          <p:spPr>
            <a:xfrm>
              <a:off x="785880" y="158760"/>
              <a:ext cx="8023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914400" y="2746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>
                  <a:solidFill>
                    <a:srgbClr val="138677"/>
                  </a:solidFill>
                  <a:latin typeface="Franklin Gothic Book"/>
                  <a:ea typeface="B Titr"/>
                </a:rPr>
                <a:t> </a:t>
              </a:r>
              <a:r>
                <a:rPr b="0" lang="fa-IR" sz="4000" spc="-1" strike="noStrike">
                  <a:solidFill>
                    <a:srgbClr val="138677"/>
                  </a:solidFill>
                  <a:latin typeface="Franklin Gothic Book"/>
                  <a:cs typeface="B Titr"/>
                </a:rPr>
                <a:t>پرسش ها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258" name="Content Placeholder 2" descr=""/>
          <p:cNvPicPr/>
          <p:nvPr/>
        </p:nvPicPr>
        <p:blipFill>
          <a:blip r:embed="rId2"/>
          <a:stretch/>
        </p:blipFill>
        <p:spPr>
          <a:xfrm>
            <a:off x="822240" y="1427040"/>
            <a:ext cx="793764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Diagram 3" descr=""/>
          <p:cNvPicPr/>
          <p:nvPr/>
        </p:nvPicPr>
        <p:blipFill>
          <a:blip r:embed="rId1"/>
          <a:stretch/>
        </p:blipFill>
        <p:spPr>
          <a:xfrm>
            <a:off x="-60480" y="298440"/>
            <a:ext cx="868680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Diagram 1" descr=""/>
          <p:cNvPicPr/>
          <p:nvPr/>
        </p:nvPicPr>
        <p:blipFill>
          <a:blip r:embed="rId1"/>
          <a:stretch/>
        </p:blipFill>
        <p:spPr>
          <a:xfrm>
            <a:off x="682560" y="384120"/>
            <a:ext cx="8163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mene</dc:creator>
  <dc:description/>
  <dc:language>en-US</dc:language>
  <cp:lastModifiedBy>Marziyeh</cp:lastModifiedBy>
  <dcterms:modified xsi:type="dcterms:W3CDTF">2016-01-11T08:26:23Z</dcterms:modified>
  <cp:revision>110</cp:revision>
  <dc:subject/>
  <dc:title>Slide 1</dc:title>
</cp:coreProperties>
</file>